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9A53-9B0A-4E6A-918A-B4D5B577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4BC2-ED5E-4A14-85DF-93A072E3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6C5F-5F1D-4357-8FB9-73748733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1052-0B36-439B-BCF8-E8131B3A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E1FA-5922-490E-9030-094E66B5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09F3-0D45-4E47-9EB5-6421D3DC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264B-FEE4-4EC4-B2FD-711592B0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52D8-9673-4854-A1D7-05DBDFE2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18E4-E918-493C-A005-146C90BB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E7B3-A61F-4CD9-A153-945A4BCF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CE1B-B9E7-4AC6-A419-746D8164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F4AA-4C93-420A-9149-9A160F7A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CB7C-90DC-44D8-A363-F0BDDB45AD79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morrisville.edu/Athletics/images/Field%2520hockey.jpg&amp;imgrefurl=http://www.morrisville.edu/Athletics/Field_Hockey/&amp;h=180&amp;w=275&amp;sz=86&amp;hl=en&amp;start=14&amp;um=1&amp;tbnid=eHAokIHepD92AM:&amp;tbnh=87&amp;tbnw=133&amp;prev=/images%3Fq%3Dfield%2Bhockey%26svnum%3D10%26um%3D1%26hl%3Den%26sa%3D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Intermediate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514600"/>
            <a:ext cx="79250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Preparation of the Body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Lesson 6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ednesday 23</a:t>
            </a:r>
            <a:r>
              <a:rPr b="1" lang="en-US" sz="4000" spc="-1" strike="noStrike" baseline="30000">
                <a:solidFill>
                  <a:srgbClr val="0000ff"/>
                </a:solidFill>
                <a:latin typeface="Comic Sans MS"/>
              </a:rPr>
              <a:t>rd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September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Fartlek Trai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447920"/>
            <a:ext cx="85345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his is a Swedish term meaning ‘speed play’.  It can take a variety of different forms including varying pace or level of terrain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It involves running for a period of time at different speeds (or levels).  These speeds can include:  walking, jogging, ½ pace running, ¾ pace running and sprinting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523880"/>
            <a:ext cx="784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Fartlek Trai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447920"/>
            <a:ext cx="8534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Example Session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523880"/>
            <a:ext cx="784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467480" cy="289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6019920"/>
            <a:ext cx="70866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8381880" y="2743200"/>
            <a:ext cx="0" cy="281952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638680" y="2438280"/>
            <a:ext cx="23623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124080" y="2438280"/>
            <a:ext cx="2438640" cy="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85800" y="2438280"/>
            <a:ext cx="23623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743200"/>
            <a:ext cx="0" cy="2895480"/>
          </a:xfrm>
          <a:prstGeom prst="line">
            <a:avLst/>
          </a:prstGeom>
          <a:ln w="255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3048120"/>
            <a:ext cx="25146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Walk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Jog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½ Pac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Comic Sans MS"/>
              </a:rPr>
              <a:t>¾ Pac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print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30481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38862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m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914400" y="289548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9718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0m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Task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989000"/>
            <a:ext cx="85341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mic Sans MS"/>
              </a:rPr>
              <a:t>Compete the Fartlek worksheet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mic Sans MS"/>
              </a:rPr>
              <a:t>Enter this as workbox 8 after page 19 of your course notes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523880"/>
            <a:ext cx="784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Task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1557360"/>
            <a:ext cx="853416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Discussion: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What could you do to increase the INTENSITY of a </a:t>
            </a:r>
            <a:r>
              <a:rPr b="0" lang="en-GB" sz="3600" spc="-1" strike="noStrike" u="sng">
                <a:solidFill>
                  <a:srgbClr val="0000ff"/>
                </a:solidFill>
                <a:uFillTx/>
                <a:latin typeface="Comic Sans MS"/>
              </a:rPr>
              <a:t>continuous</a:t>
            </a: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 training session?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What could you do to increase the INTENSITY of a </a:t>
            </a:r>
            <a:r>
              <a:rPr b="0" lang="en-GB" sz="3600" spc="-1" strike="noStrike" u="sng">
                <a:solidFill>
                  <a:srgbClr val="0000ff"/>
                </a:solidFill>
                <a:uFillTx/>
                <a:latin typeface="Comic Sans MS"/>
              </a:rPr>
              <a:t>fartlek</a:t>
            </a: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 training session?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 single training s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447920"/>
            <a:ext cx="85345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This should include: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A warm up (3 parts)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The CRE session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kills practices 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mall sided game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A cool down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ask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447920"/>
            <a:ext cx="85345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Using the worksheet, describe a single training session for a hockey player trying to improve cardio-respiratory endurance.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Once complete enter this worksheet as workbox 9 after page 19 of your course notes.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447920"/>
            <a:ext cx="8534520" cy="41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Complete Q2 on page 19 of your course notes.  The question should be completed on a single sheet of A4 so that it can be entered into your course notes.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Due date – Wednesday 30</a:t>
            </a:r>
            <a:r>
              <a:rPr b="0" lang="en-US" sz="3600" spc="-1" strike="noStrike" baseline="30000">
                <a:solidFill>
                  <a:srgbClr val="0000ff"/>
                </a:solidFill>
                <a:latin typeface="Comic Sans MS"/>
              </a:rPr>
              <a:t>th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 September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628640"/>
            <a:ext cx="8424720" cy="48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By the end of this lesson you should all:</a:t>
            </a:r>
            <a:endParaRPr b="0" lang="en-US" sz="2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624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Be able to name and describe 2 methods of training used to improve cardio-respiratory endurance.</a:t>
            </a:r>
            <a:endParaRPr b="0" lang="en-US" sz="2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624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tate what level of intensity and duration you must work at to improve cardio-respiratory endurance.</a:t>
            </a:r>
            <a:endParaRPr b="0" lang="en-US" sz="2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624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tate which of the methods of training are most appropriate to hockey training and why.</a:t>
            </a:r>
            <a:endParaRPr b="0" lang="en-US" sz="2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escribe a single training session.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Initial Tas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484280"/>
            <a:ext cx="81532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Quick Quiz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tate: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 physical aspects of fitnes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 skill related aspects of fitnes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 methods of gathering informatio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 methods of training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ime – 2 minut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628640"/>
            <a:ext cx="8424720" cy="48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By the end of this lesson you should all:</a:t>
            </a:r>
            <a:endParaRPr b="0" lang="en-US" sz="2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624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Be able to name and describe 2 methods of training used to improve cardio-respiratory endurance.</a:t>
            </a:r>
            <a:endParaRPr b="0" lang="en-US" sz="2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624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tate what level of intensity and duration you must work at to improve cardio-respiratory endurance.</a:t>
            </a:r>
            <a:endParaRPr b="0" lang="en-US" sz="2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624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tate which of the methods of training are most appropriate to hockey training and why.</a:t>
            </a:r>
            <a:endParaRPr b="0" lang="en-US" sz="2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Describe a single training session.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00400" y="19051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752480"/>
            <a:ext cx="358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4.  EVALUATE - Reflect on the benefits of your programme of work and discuss future development need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4267080"/>
            <a:ext cx="2667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2.  ANALYSE - Explain how key concept knowledge helped you analyse performanc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1447920"/>
            <a:ext cx="3048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1.  INVESTIGATE - Explain how performance was investigated through collecting information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4572000"/>
            <a:ext cx="335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.  DEVELOP - Explain the content and suitability of the programme you were monitoring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295280"/>
            <a:ext cx="4267080" cy="22860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3886200"/>
            <a:ext cx="2971800" cy="2438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1066680"/>
            <a:ext cx="3200400" cy="25146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4191120"/>
            <a:ext cx="3810240" cy="2133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71640" y="549360"/>
            <a:ext cx="4114800" cy="761760"/>
          </a:xfrm>
          <a:custGeom>
            <a:avLst/>
            <a:gdLst>
              <a:gd name="textAreaLeft" fmla="*/ 720000 w 4114800"/>
              <a:gd name="textAreaRight" fmla="*/ 2983320 w 411480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1880" y="2743200"/>
            <a:ext cx="533520" cy="1905120"/>
          </a:xfrm>
          <a:custGeom>
            <a:avLst/>
            <a:gdLst>
              <a:gd name="textAreaLeft" fmla="*/ 71280 w 533520"/>
              <a:gd name="textAreaRight" fmla="*/ 462240 w 53352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634560" y="6021360"/>
            <a:ext cx="2514600" cy="609480"/>
          </a:xfrm>
          <a:custGeom>
            <a:avLst/>
            <a:gdLst>
              <a:gd name="textAreaLeft" fmla="*/ 439560 w 2514600"/>
              <a:gd name="textAreaRight" fmla="*/ 1822680 w 25146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28600" y="3123360"/>
            <a:ext cx="733320" cy="1600200"/>
          </a:xfrm>
          <a:custGeom>
            <a:avLst/>
            <a:gdLst>
              <a:gd name="textAreaLeft" fmla="*/ 98280 w 733320"/>
              <a:gd name="textAreaRight" fmla="*/ 635040 w 73332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Developing Perform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197000"/>
            <a:ext cx="8686800" cy="48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Once we have identified weaknesses in our performance we must decide on a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programme of work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 to improve them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hat do we need to consider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uration of programme of work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Method of training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requency of training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Intensity of training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Programme of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1700280"/>
            <a:ext cx="86868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o improve cardio-respiratory endurance we must complete a programme of work which lasts for ____ weeks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e must train a minimum of ___ times a week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ask – Read page 18 of your course notes.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Methods of 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2565360"/>
            <a:ext cx="8362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mic Sans MS"/>
              </a:rPr>
              <a:t>To improve cardio-respiratory endurance we can use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mic Sans MS"/>
              </a:rPr>
              <a:t>Continuous Training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mic Sans MS"/>
              </a:rPr>
              <a:t>Fartlek Training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Continuous Trai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133720"/>
            <a:ext cx="868680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e must run for how long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At what intensity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How is this monitored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How is it controlled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raining Z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700280"/>
            <a:ext cx="8686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ow could you make sure you stayed within the training zone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hat would you expect to see over a period of time if you trained regularly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4724280"/>
            <a:ext cx="2286000" cy="1494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809880" y="4800600"/>
            <a:ext cx="1676520" cy="1576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095880" y="4648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09-23T07:41:03Z</dcterms:modified>
  <cp:revision>42</cp:revision>
  <dc:subject/>
  <dc:title>Intermediate PE</dc:title>
</cp:coreProperties>
</file>